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wmf" ContentType="image/x-wmf"/>
  <Override PartName="/ppt/media/image18.png" ContentType="image/png"/>
  <Override PartName="/ppt/media/image6.jpeg" ContentType="image/jpeg"/>
  <Override PartName="/ppt/media/image20.wmf" ContentType="image/x-wmf"/>
  <Override PartName="/ppt/media/image17.png" ContentType="image/png"/>
  <Override PartName="/ppt/media/image32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28.jpeg" ContentType="image/jpeg"/>
  <Override PartName="/ppt/media/image23.wmf" ContentType="image/x-wmf"/>
  <Override PartName="/ppt/media/image9.jpeg" ContentType="image/jpeg"/>
  <Override PartName="/ppt/media/image11.png" ContentType="image/png"/>
  <Override PartName="/ppt/media/image29.wmf" ContentType="image/x-wmf"/>
  <Override PartName="/ppt/media/image31.wmf" ContentType="image/x-wmf"/>
  <Override PartName="/ppt/media/image33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5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35.wmf" ContentType="image/x-wmf"/>
  <Override PartName="/ppt/media/image16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8F8-1203-4478-9A57-91E25175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0890-9948-4E29-8F98-DF9AA65D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067F-3232-49B3-99F4-A318E46F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6613-089C-4ABB-A6EA-06C1B259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4C4-069A-4986-927C-1A771FF2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1749-AD99-4DE7-A55F-20446BD0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D389-4DA3-400E-855D-37AABCAF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6E6-ECF2-41F0-993F-E86CF549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ECE0-EDCE-4FEA-A003-37373D6E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4265-E11E-4070-9E9F-F2AA181E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6DE0-F504-4BA0-A923-697EBB9C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4952-5B4C-4075-93EB-5B40A829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C874-14A6-4CC4-87F9-B2CED75A9D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rai.net.ru/nano/" TargetMode="External"/><Relationship Id="rId3" Type="http://schemas.openxmlformats.org/officeDocument/2006/relationships/hyperlink" Target="http://urai.net.ru/crystal/p2aa1.html" TargetMode="External"/><Relationship Id="rId4" Type="http://schemas.openxmlformats.org/officeDocument/2006/relationships/hyperlink" Target="http://images.yandex.ru/yandsearch?rpt=simage&amp;ed=1&amp;text=&#1088;&#1072;&#1089;&#1090;&#1074;&#1086;&#1088;%20&#1084;&#1077;&#1076;&#1085;&#1086;&#1075;&#1086;%20&#1082;&#1091;&#1087;&#1086;&#1088;&#1086;&#1089;&#1072;&amp;p=6&amp;img_url=akak.ru%2Fsteps%2Fpictures%2F000%2F017%2F616_large.jp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0"/>
            <a:ext cx="9144000" cy="7051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copper-sulfate"/>
          <p:cNvPicPr/>
          <p:nvPr/>
        </p:nvPicPr>
        <p:blipFill>
          <a:blip r:embed="rId2"/>
          <a:stretch/>
        </p:blipFill>
        <p:spPr>
          <a:xfrm>
            <a:off x="5424480" y="3571920"/>
            <a:ext cx="3384720" cy="2908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63640" y="1341000"/>
            <a:ext cx="67658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ыращивание кристаллов медного купороса                                  в домашних услов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555640" y="4076280"/>
            <a:ext cx="38876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у выполнил                                                        ученик  2 класса «В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Ш №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ибаев Асылж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ководитель проекта                                                        Кокашвили  Е.С.                                                учитель начальных классов ОСШ № 11 г. Караган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0"/>
            <a:ext cx="9144000" cy="7051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593720" y="333360"/>
            <a:ext cx="7442280" cy="6524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2448000" y="2535120"/>
            <a:ext cx="6696000" cy="41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8_b"/>
          <p:cNvPicPr/>
          <p:nvPr/>
        </p:nvPicPr>
        <p:blipFill>
          <a:blip r:embed="rId2"/>
          <a:stretch/>
        </p:blipFill>
        <p:spPr>
          <a:xfrm>
            <a:off x="6300720" y="4959360"/>
            <a:ext cx="2519280" cy="1898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593720" y="189000"/>
            <a:ext cx="7226280" cy="554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2448000" y="2535120"/>
            <a:ext cx="6696000" cy="41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8_b"/>
          <p:cNvPicPr/>
          <p:nvPr/>
        </p:nvPicPr>
        <p:blipFill>
          <a:blip r:embed="rId2"/>
          <a:stretch/>
        </p:blipFill>
        <p:spPr>
          <a:xfrm>
            <a:off x="7164360" y="5589720"/>
            <a:ext cx="1655640" cy="1288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1593720" y="189000"/>
            <a:ext cx="7226280" cy="5719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2448000" y="2535120"/>
            <a:ext cx="6696000" cy="41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8_b"/>
          <p:cNvPicPr/>
          <p:nvPr/>
        </p:nvPicPr>
        <p:blipFill>
          <a:blip r:embed="rId2"/>
          <a:stretch/>
        </p:blipFill>
        <p:spPr>
          <a:xfrm>
            <a:off x="7164360" y="5589720"/>
            <a:ext cx="1655640" cy="1288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1547640" y="404640"/>
            <a:ext cx="7272360" cy="5185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C:\Users\User\Documents\SHablon-dlya-prezentatsii-po-himii.jpg"/>
          <p:cNvPicPr/>
          <p:nvPr/>
        </p:nvPicPr>
        <p:blipFill>
          <a:blip r:embed="rId1"/>
          <a:stretch/>
        </p:blipFill>
        <p:spPr>
          <a:xfrm>
            <a:off x="-252360" y="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14680" y="428760"/>
            <a:ext cx="674352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щивание кристаллов медного купо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642680" y="5357880"/>
            <a:ext cx="72867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F:\Асылжан\P70407-083848.jpg"/>
          <p:cNvPicPr/>
          <p:nvPr/>
        </p:nvPicPr>
        <p:blipFill>
          <a:blip r:embed="rId2"/>
          <a:srcRect l="0" t="0" r="0" b="23796"/>
          <a:stretch/>
        </p:blipFill>
        <p:spPr>
          <a:xfrm>
            <a:off x="3924360" y="1671480"/>
            <a:ext cx="2249280" cy="2495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F:\Асылжан\P70407-084153.jpg"/>
          <p:cNvPicPr/>
          <p:nvPr/>
        </p:nvPicPr>
        <p:blipFill>
          <a:blip r:embed="rId3"/>
          <a:srcRect l="0" t="0" r="0" b="27939"/>
          <a:stretch/>
        </p:blipFill>
        <p:spPr>
          <a:xfrm>
            <a:off x="6588000" y="1639800"/>
            <a:ext cx="1957680" cy="2508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4"/>
          <a:stretch/>
        </p:blipFill>
        <p:spPr>
          <a:xfrm>
            <a:off x="1593720" y="4148280"/>
            <a:ext cx="6507360" cy="2881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5"/>
          <a:srcRect l="24212" t="0" r="10230" b="21585"/>
          <a:stretch/>
        </p:blipFill>
        <p:spPr>
          <a:xfrm>
            <a:off x="1760400" y="1671480"/>
            <a:ext cx="1746360" cy="2476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User\Documents\SHablon-dlya-prezentatsii-po-himii.jpg"/>
          <p:cNvPicPr/>
          <p:nvPr/>
        </p:nvPicPr>
        <p:blipFill>
          <a:blip r:embed="rId1"/>
          <a:stretch/>
        </p:blipFill>
        <p:spPr>
          <a:xfrm>
            <a:off x="-1764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28520" y="499680"/>
            <a:ext cx="65293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щивание кристаллов медного купо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2"/>
          <a:stretch/>
        </p:blipFill>
        <p:spPr>
          <a:xfrm>
            <a:off x="1593720" y="4005360"/>
            <a:ext cx="6939000" cy="2663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F:\Асылжан\P70407-084207.jpg"/>
          <p:cNvPicPr/>
          <p:nvPr/>
        </p:nvPicPr>
        <p:blipFill>
          <a:blip r:embed="rId3"/>
          <a:srcRect l="0" t="0" r="0" b="25862"/>
          <a:stretch/>
        </p:blipFill>
        <p:spPr>
          <a:xfrm>
            <a:off x="2484360" y="1844640"/>
            <a:ext cx="2210040" cy="2160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User\Documents\SHablon-dlya-prezentatsii-po-himii.jpg"/>
          <p:cNvPicPr/>
          <p:nvPr/>
        </p:nvPicPr>
        <p:blipFill>
          <a:blip r:embed="rId1"/>
          <a:stretch/>
        </p:blipFill>
        <p:spPr>
          <a:xfrm>
            <a:off x="22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34920" y="358920"/>
            <a:ext cx="681516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щивание кристаллов                 медного купор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643040" y="4714560"/>
            <a:ext cx="714384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2268360" y="4292640"/>
            <a:ext cx="6551640" cy="1873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F:\Асылжан\P70407-084334.jpg"/>
          <p:cNvPicPr/>
          <p:nvPr/>
        </p:nvPicPr>
        <p:blipFill>
          <a:blip r:embed="rId3"/>
          <a:srcRect l="0" t="0" r="0" b="18159"/>
          <a:stretch/>
        </p:blipFill>
        <p:spPr>
          <a:xfrm>
            <a:off x="4140360" y="1523880"/>
            <a:ext cx="2303280" cy="2538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User\Documents\SHablon-dlya-prezentatsii-po-him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2"/>
          <a:stretch/>
        </p:blipFill>
        <p:spPr>
          <a:xfrm>
            <a:off x="1593720" y="1233360"/>
            <a:ext cx="5954760" cy="4395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User\Documents\SHablon-dlya-prezentatsii-po-him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14320" y="999720"/>
            <a:ext cx="707220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Все о минералах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urai.net.ru/nano/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ыращивание минерало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urai.net.ru/crystal/p2aa1.html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Леенсон И.А Занимательная химия для детей и взрослы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Твой первый АТЛАС определитель    МИНЕРАЛ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Энциклопедия драгоценных камней и кристалл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http://www.kristallikov.net/page6.html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ages.yandex.ru/yandsearch?rpt=simage&amp;ed=1&amp;text=%D1%80%D0%B0%D1%81%D1%82%D0%B2%D0%BE%D1%80%20%D0%BC%D0%B5%D0%B4%D0%BD%D0%BE%D0%B3%D0%BE%20%D0%BA%D1%83%D0%BF%D0%BE%D1%80%D0%BE%D1%81%D0%B0&amp;p=6&amp;img_url=akak.ru%2Fsteps%2Fpictures%2F000%2F017%2F616_large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file://localhost/E:/Data/Information/Kristalls/01.htm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file://localhost/E:/Data/Information/Kristalls/05.htm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Алексинский В.Н. Занимательные опыты по химии: Книга для учителя. - М.: Просвещение,1995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14400" y="5929200"/>
            <a:ext cx="50576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22400" y="765000"/>
            <a:ext cx="6321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СТАЛЛЫ, ВСТРЕЧАЮЩИЕСЯ                                  В ПРИРОД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71400" y="1856880"/>
            <a:ext cx="342900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ЛМА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минерал, самородный элемент, встречается в виде восьми- и двенадцатигранных кристаллов и их ча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9" descr="C:\Users\User\Pictures\Загрузи\x_6e01ae78.jpg"/>
          <p:cNvPicPr/>
          <p:nvPr/>
        </p:nvPicPr>
        <p:blipFill>
          <a:blip r:embed="rId2"/>
          <a:stretch/>
        </p:blipFill>
        <p:spPr>
          <a:xfrm>
            <a:off x="3203640" y="5637240"/>
            <a:ext cx="1512720" cy="12207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" descr=""/>
          <p:cNvPicPr/>
          <p:nvPr/>
        </p:nvPicPr>
        <p:blipFill>
          <a:blip r:embed="rId3"/>
          <a:stretch/>
        </p:blipFill>
        <p:spPr>
          <a:xfrm>
            <a:off x="5572080" y="1785960"/>
            <a:ext cx="2720880" cy="20368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"/>
          <p:cNvPicPr/>
          <p:nvPr/>
        </p:nvPicPr>
        <p:blipFill>
          <a:blip r:embed="rId4"/>
          <a:stretch/>
        </p:blipFill>
        <p:spPr>
          <a:xfrm>
            <a:off x="5500800" y="4286160"/>
            <a:ext cx="2928960" cy="1754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3080" y="499680"/>
            <a:ext cx="64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СТАЛЛЫ, ВСТРЕЧАЮЩИЕСЯ                                  В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42680" y="1857240"/>
            <a:ext cx="314316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розрачный, ярко-красного, темно-красного или фиолетово-красного цвета. Окраска создается примесью хро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C:\Users\User\Pictures\Загрузи\1266227834_glamour.tomsk.ru34.jpg"/>
          <p:cNvPicPr/>
          <p:nvPr/>
        </p:nvPicPr>
        <p:blipFill>
          <a:blip r:embed="rId2"/>
          <a:stretch/>
        </p:blipFill>
        <p:spPr>
          <a:xfrm>
            <a:off x="2484360" y="5429160"/>
            <a:ext cx="1871640" cy="1214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3" descr=""/>
          <p:cNvPicPr/>
          <p:nvPr/>
        </p:nvPicPr>
        <p:blipFill>
          <a:blip r:embed="rId3"/>
          <a:stretch/>
        </p:blipFill>
        <p:spPr>
          <a:xfrm>
            <a:off x="5214960" y="1928880"/>
            <a:ext cx="2786040" cy="17827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6" descr=""/>
          <p:cNvPicPr/>
          <p:nvPr/>
        </p:nvPicPr>
        <p:blipFill>
          <a:blip r:embed="rId4"/>
          <a:stretch/>
        </p:blipFill>
        <p:spPr>
          <a:xfrm>
            <a:off x="5214960" y="4071960"/>
            <a:ext cx="2863800" cy="1776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044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СТАЛЛЫ, ВСТРЕЧАЮЩИЕСЯ                                  В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643040"/>
            <a:ext cx="350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ным материалом дл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АПФИР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ется корунд - бесцветный оксид алюминия. При добавления 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м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итана и железа в период его формирования образуются кристаллы сапфира прекрасного сине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C:\Users\User\Pictures\Загрузи\i.jpeg"/>
          <p:cNvPicPr/>
          <p:nvPr/>
        </p:nvPicPr>
        <p:blipFill>
          <a:blip r:embed="rId2"/>
          <a:stretch/>
        </p:blipFill>
        <p:spPr>
          <a:xfrm>
            <a:off x="2700360" y="5445000"/>
            <a:ext cx="1727280" cy="1376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9" descr=""/>
          <p:cNvPicPr/>
          <p:nvPr/>
        </p:nvPicPr>
        <p:blipFill>
          <a:blip r:embed="rId3"/>
          <a:stretch/>
        </p:blipFill>
        <p:spPr>
          <a:xfrm>
            <a:off x="5643720" y="1714680"/>
            <a:ext cx="2571480" cy="20491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2" descr=""/>
          <p:cNvPicPr/>
          <p:nvPr/>
        </p:nvPicPr>
        <p:blipFill>
          <a:blip r:embed="rId4"/>
          <a:stretch/>
        </p:blipFill>
        <p:spPr>
          <a:xfrm>
            <a:off x="5643720" y="4071960"/>
            <a:ext cx="2714400" cy="1805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14320" y="571320"/>
            <a:ext cx="65293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НЕНИЕ КРИСТАЛЛОВ                                       В НАУКЕ И ТЕХН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14320" y="1785600"/>
            <a:ext cx="35002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й твердый и самый редкий из природных минералов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лм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егодня алмаз в первую очередь камень-работник, а не камень-украшение. Алмазными пилами распиливают кам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Users\User\Pictures\Загрузи\Makita_4101RH_1_1.jpg.1000x1000_q85.jpg"/>
          <p:cNvPicPr/>
          <p:nvPr/>
        </p:nvPicPr>
        <p:blipFill>
          <a:blip r:embed="rId2"/>
          <a:stretch/>
        </p:blipFill>
        <p:spPr>
          <a:xfrm>
            <a:off x="4929120" y="1714680"/>
            <a:ext cx="3738600" cy="3738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2680" y="571680"/>
            <a:ext cx="681516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Е КРИСТАЛЛОВ                                       В НАУКЕ И ТЕХ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571760" y="2071800"/>
            <a:ext cx="35719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убин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сятся к самым красивым и самым дорогим из драгоценных камней. У   него есть и другие качества, более скромные, но полезные. Новая жизнь рубина - это лаз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Users\User\Pictures\Загрузи\tattoo905.jpg"/>
          <p:cNvPicPr/>
          <p:nvPr/>
        </p:nvPicPr>
        <p:blipFill>
          <a:blip r:embed="rId2"/>
          <a:stretch/>
        </p:blipFill>
        <p:spPr>
          <a:xfrm>
            <a:off x="5072040" y="1857240"/>
            <a:ext cx="3643200" cy="3643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5960" y="571680"/>
            <a:ext cx="66722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Е КРИСТАЛЛОВ                                       В НАУКЕ И ТЕХ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714320" y="2142720"/>
            <a:ext cx="28573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апфи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зрачен, поэтому из него делают пластины для оптических приб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C:\Users\User\Pictures\Загрузи\sturman_F30070.jpg"/>
          <p:cNvPicPr/>
          <p:nvPr/>
        </p:nvPicPr>
        <p:blipFill>
          <a:blip r:embed="rId2"/>
          <a:stretch/>
        </p:blipFill>
        <p:spPr>
          <a:xfrm>
            <a:off x="6429240" y="2786040"/>
            <a:ext cx="2043360" cy="3381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User\Pictures\Загрузи\thumbnail.jpeg"/>
          <p:cNvPicPr/>
          <p:nvPr/>
        </p:nvPicPr>
        <p:blipFill>
          <a:blip r:embed="rId3"/>
          <a:stretch/>
        </p:blipFill>
        <p:spPr>
          <a:xfrm>
            <a:off x="4643280" y="1785960"/>
            <a:ext cx="1872000" cy="1309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User\Pictures\Загрузи\1004650031.jpg"/>
          <p:cNvPicPr/>
          <p:nvPr/>
        </p:nvPicPr>
        <p:blipFill>
          <a:blip r:embed="rId4"/>
          <a:stretch/>
        </p:blipFill>
        <p:spPr>
          <a:xfrm>
            <a:off x="4143240" y="407196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1714680" y="857160"/>
            <a:ext cx="6929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42680" y="500040"/>
            <a:ext cx="68151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ЧЕМ ГОВОРЯТ ЛЕГЕ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571760" y="1785960"/>
            <a:ext cx="35719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представьте себе: чтобы ослепить ядовитую змею, достаточно показать ей ярко-зеленый камень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мру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40" descr=""/>
          <p:cNvPicPr/>
          <p:nvPr/>
        </p:nvPicPr>
        <p:blipFill>
          <a:blip r:embed="rId2"/>
          <a:srcRect l="0" t="0" r="0" b="-29"/>
          <a:stretch/>
        </p:blipFill>
        <p:spPr>
          <a:xfrm>
            <a:off x="2143080" y="371484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9"/>
          <p:cNvSpPr/>
          <p:nvPr/>
        </p:nvSpPr>
        <p:spPr>
          <a:xfrm>
            <a:off x="5143680" y="3714840"/>
            <a:ext cx="3643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чтобы избавиться от дурных снов, надо носить на пальце кольцо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бин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аш конь станет выносливым и послушным, если в его уздечку вплести синий камешек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рюз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1" descr=""/>
          <p:cNvPicPr/>
          <p:nvPr/>
        </p:nvPicPr>
        <p:blipFill>
          <a:blip r:embed="rId3"/>
          <a:stretch/>
        </p:blipFill>
        <p:spPr>
          <a:xfrm>
            <a:off x="5357880" y="1643040"/>
            <a:ext cx="3143160" cy="2038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14400" y="-244440"/>
            <a:ext cx="9144000" cy="712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555640" y="4076280"/>
            <a:ext cx="38876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6443640" y="5013360"/>
            <a:ext cx="2449440" cy="1584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tretch/>
        </p:blipFill>
        <p:spPr>
          <a:xfrm>
            <a:off x="1692360" y="189000"/>
            <a:ext cx="7200720" cy="6048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8:34:53Z</dcterms:created>
  <dc:creator>"Храмцова Елена" &lt;khramtzova.alena@mail.ru&gt;</dc:creator>
  <dc:description/>
  <dc:language>en-US</dc:language>
  <cp:lastModifiedBy>1</cp:lastModifiedBy>
  <dcterms:modified xsi:type="dcterms:W3CDTF">2017-05-31T08:31:58Z</dcterms:modified>
  <cp:revision>94</cp:revision>
  <dc:subject/>
  <dc:title>КРИСТАЛЛЫ</dc:title>
</cp:coreProperties>
</file>